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7124-8EB8-41A9-96B4-6ED938F1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355-C540-48A1-94B2-E8806F21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88C-AAE4-41B6-8210-EBE2147B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CC94-5C38-4BD9-87EB-05F5DC3E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8472-D851-4F65-B5F5-5C9155EA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98C6-672D-4630-B7F1-6A915998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576B-F889-43D7-AC8D-EFA60089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EE79-553C-42A0-8F56-83544F3C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E150-1362-4982-A920-22502715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57D1-9D27-4905-A8E0-B87BA98C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76EE-C6BF-40A5-9E2F-773838A3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394-33E6-4D93-AC9D-C2E6992C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4A45-1A91-40EA-B98E-3A5006B6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66CC-C4C5-42A1-A779-E9F4366A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12D9-C5BD-4603-BE9F-F76364E2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441E-E3A4-4F73-87E3-61A2E637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1341-0EE4-41F9-9773-8090600B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279-BA62-46CB-88F5-458CE135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9FF-0C2D-472F-90FB-C831E92F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3C0-A05C-4089-8F55-7C9151B5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589A-C12F-4F58-970A-516534D9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958D-0123-44DD-95FA-88FFE2DB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0CB-831D-4338-BB18-7E0A5FC9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C25-0A2E-499C-A2A5-E50297CC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79F8-FB3D-42F5-8F45-CFA718FFC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8FF1-E7AF-4E8B-BF12-7F11F8B1A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File:Usta&#353;a_forced_conversions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en.wikipedia.org/wiki/File:Ustasamilitia.jpg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Simon_Wiesenthal_Center" TargetMode="External"/><Relationship Id="rId3" Type="http://schemas.openxmlformats.org/officeDocument/2006/relationships/hyperlink" Target="http://en.wikipedia.org/wiki/Encyclopedia_of_the_Holocaust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astern Front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orld War 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"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ugoslavia’s op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Let Germany take over after all they are much strong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Fight back because it’s not right to take over another count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ease not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ter World War I the country of Yugoslavia was created by the allies to include Serbs, Croats, Slovenes, Macedonians, Montenegrin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ugoslavia was a Constitutional Monarchy headed by the Serbian Monarchy the Karageorgivch Fami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ugoslavia after the Nazi’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ice how the map has chang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19320" y="2743200"/>
            <a:ext cx="4647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happened to Yugoslavia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rbs resist instead of giving 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za Mihailovic and the Chetniks revolt in M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lan Nedic want to save the as many Serbs as possible creating the Serbian Government of Salv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sip Broz Tito is the leader of the Partisan (communists) and he fights the Nazi’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oatians join the Nazi’s and are known as Ustashi (Ustas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mages of the Ustasi Occup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tasa leader Ante Pavelic with Nazi Foreign Minister Joachim von Ribbentrop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rbs being converted to Catholi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ctims in Jasenovac Concentration Cam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190512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1828800"/>
            <a:ext cx="2590560" cy="170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3048120" y="3833640"/>
            <a:ext cx="25905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did Croatia w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rding to the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Simon Wiesenthal Cent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citing the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Encyclopedia of the Holoca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, "Ustasa terrorists killed 500,000 Serbs, expelled 250,000 and forced 250,000 to convert to Catholicism. They murdered thousands of Jews and Gypsies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xplaining the Traged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rimes of the fascist Ustashe against the Serbs in the notorious camp of Jasenovac must be known - crimes that are the worst ones along with those committed against the Jews in the Holocaust."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imon Wiesenth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entration Camp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kov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n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strebarsko (children’s camp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dov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senova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restine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ruc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pogla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borgr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ra Gradisk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vni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asenovac then;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2152800" cy="2324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876920" y="1676520"/>
            <a:ext cx="3352680" cy="2209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590920" y="4038480"/>
            <a:ext cx="2857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asenovac Memorial Now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43000" y="14479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800600" y="35812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should the Serbs do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hoices were hard either be killed by the Ustasa or fight against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azi’s had a formula for every 1 German killed 100 Serbs; 1 German injured 50 Serbs kill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Serbs from Bosnia, Lika, Dalmatia decided to f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sided with the Partisans (Tito and the communis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went along with the Chetni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itler wants Gree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f Hitler can take Greece he can have control of the Mediterranean Sea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e has to go through Europe to get ther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taly invades Greece through Albania 10/28/194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rmany joins April 1941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Greeks fight har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of the worst battles is the Battle of Crete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raza Mihailovi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orld War I soldier Dragolub took the responsibility of organizing the Chetniks to fight against the Nazi’s in the name of the Royal Army in May 1941 after the Nazi’s inv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638680" y="4419720"/>
            <a:ext cx="1552680" cy="2000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048120" y="43434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mcilo Djui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riest and Duke of the Dinarska Division under the leadership of Draza organized the Serb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Independent State of Croatia and Bosnia many Serbs resisted under the Chetni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Momcilo djujic.jpg"/>
          <p:cNvPicPr/>
          <p:nvPr/>
        </p:nvPicPr>
        <p:blipFill>
          <a:blip r:embed="rId2"/>
          <a:stretch/>
        </p:blipFill>
        <p:spPr>
          <a:xfrm>
            <a:off x="5943600" y="3962520"/>
            <a:ext cx="19652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ilan Nedi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d a group of Serbs in Serbia known as the Serbian Government of Sal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did this to save as many Serbs as possible from the Nazi’s and Communis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352680" y="4114800"/>
            <a:ext cx="21430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were the Allies doing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beginning of the War the Allies supported the Chetni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etniks saved 500 U.S. Airm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the Allies changed sides and supported Tito/Partisa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etniks had no choice either flee Yugoslavia or stay and be kil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juic Leav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ke Djuic leaves with 20,000 Serbs north for Slove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alk almost all winter long and stay over night in houses when the weather gets really b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tually the Dinarska Division Chetniks walk to Italy and surrender to the Allies on May 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Djurdjev D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New Chap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begins the life in the Camps of Italy, and Germany after the w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etniks are joined by Nedic’s Serbs who also have to flee because the Communists w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tually they come to the United States, England, Australia, Canada etc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is this important to know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of all people should know their hist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the hatred of Serbs from WWII is still around today in Croat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se who cannot remember the past, are condemned to repeat it,"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orge Santayana (12/16/1863- 9/26/1952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ilosopher, essayist, poet, and novelis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roatia Today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erbs are not welcom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ependence Day April 10 1991 same day as 194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e flag from W.W.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mous Ustashi leaders are common street names and historical landmar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181480" y="4724280"/>
            <a:ext cx="28576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taly and Germany attack the Balka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Content Placeholder 3" descr="Invasion-of-Greece-1941-World-War-II.jpg"/>
          <p:cNvPicPr/>
          <p:nvPr/>
        </p:nvPicPr>
        <p:blipFill>
          <a:blip r:embed="rId2"/>
          <a:stretch/>
        </p:blipFill>
        <p:spPr>
          <a:xfrm>
            <a:off x="2813040" y="1981080"/>
            <a:ext cx="351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viet Union; Russ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of Hitler’s greatest enemies is Russia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itler breaks the non-aggression pact signed by both countries in 1939 and starts to invade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Russians fight hard and have the most causalities in the wa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Russian winter proves extra hard for the Germanys and they can’t maintain the arm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ussia at W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eople of Russia greatly suff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Ukraine “The Bread Basket” of Russia the people burn crops in order to keep the Germanys from eat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a picture of  Tanya Savicheva who kept a list of  fami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bers that di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m strav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3" descr="250px-Tanya_Savicheva_Diary[1].jpg"/>
          <p:cNvPicPr/>
          <p:nvPr/>
        </p:nvPicPr>
        <p:blipFill>
          <a:blip r:embed="rId2"/>
          <a:stretch/>
        </p:blipFill>
        <p:spPr>
          <a:xfrm>
            <a:off x="4038480" y="3957480"/>
            <a:ext cx="35578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ussia at W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Leningrad/St. Petersburg the people suffer through a harsh winter and have to boil leather (horse skin) to eat f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eating too much could poison you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viet soldiers on skies patrolling the 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3" descr="200px-Leningrad_skiers[1].jpg"/>
          <p:cNvPicPr/>
          <p:nvPr/>
        </p:nvPicPr>
        <p:blipFill>
          <a:blip r:embed="rId2"/>
          <a:stretch/>
        </p:blipFill>
        <p:spPr>
          <a:xfrm>
            <a:off x="4343400" y="403848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ussia’s Resistance against the Nazi’s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Dmitri Shostakovich’s </a:t>
            </a:r>
            <a:r>
              <a:rPr b="1" lang="en-US" sz="3500" spc="-1" strike="noStrike">
                <a:solidFill>
                  <a:srgbClr val="ffffff"/>
                </a:solidFill>
                <a:latin typeface="Tahoma"/>
              </a:rPr>
              <a:t>Symphony No. 7 in C major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Dedicated to the city of Leningrad on 27 December 1941.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ymbol of resistance and defiance to Nazi totalitarianism and militarism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People all over the world listened to this symphony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p of Russ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Content Placeholder 3" descr="OPERATION_BARBAROSSA[1].jpg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lest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 British control the Palestinian's were with the Allies in World War I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hard for Palestine to pick a side they didn’t want to side with Germany who was attacking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the British were al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ing the Jewish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Palestinian l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" descr="http://www.subtire.com/wp-content/uploads/2008/04/world-war-2.jpg"/>
          <p:cNvPicPr/>
          <p:nvPr/>
        </p:nvPicPr>
        <p:blipFill>
          <a:blip r:embed="rId2"/>
          <a:stretch/>
        </p:blipFill>
        <p:spPr>
          <a:xfrm>
            <a:off x="5486400" y="3747960"/>
            <a:ext cx="28954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6:17:51Z</dcterms:created>
  <dc:creator> </dc:creator>
  <dc:description/>
  <dc:language>en-US</dc:language>
  <cp:lastModifiedBy> </cp:lastModifiedBy>
  <dcterms:modified xsi:type="dcterms:W3CDTF">2011-01-24T02:20:36Z</dcterms:modified>
  <cp:revision>5</cp:revision>
  <dc:subject/>
  <dc:title>The Serbian Holocaust</dc:title>
</cp:coreProperties>
</file>